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93E-F178-4669-A484-A2CB4D10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FF5-24ED-4138-999D-FCA355B4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3977-A3AF-4F25-B8FE-CE41F407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72B-C932-421C-9E12-7FED46FD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E29-4B9B-42DC-BABE-95DC6008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620-1395-4C59-906F-AEB3E003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6C2-1059-4A33-9605-FF327167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F3A-D177-4A05-AEAA-52599A86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99A-D241-4C07-973A-9DB87DD3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340-0A1C-4968-A59A-51A57CB0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2014-528A-4384-9DE3-362B1CD0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9543-C1F5-4318-9CF3-DDEC2B9F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490-2869-4A94-9B0D-431A6C60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3D9A-777E-4F26-AC0D-721FEBED5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B221-0005-4B25-8B20-A1C20EBA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7C79-E38F-4579-95E3-859798A2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E493-B9D3-4572-957D-4704DD9E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6617-B5A8-4D11-B3DB-770FD08C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D240-FF95-48D4-88AB-307712E53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50D3-5962-4BF4-84C5-0D82D7E8E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1190-DD81-43BD-AC94-1AE4E9EC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6A2-FFF3-4178-BC84-B9878F61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448-A165-42C9-A1C6-D886DAB3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117D-52AF-479C-BD7F-34699DBF18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9B4C-8872-4DE5-B3D0-C694019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5ADE-6E48-451E-85F6-EF207DC8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EE91-5F3B-4859-98DF-3EDA04E7B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73DF-A060-4820-9575-88BC1C1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45B0-901D-49F3-ABE6-2F3BDC75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E7CC-CD28-40C5-90AA-1FFDAD0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0B8E-EB40-4092-9ECB-2842A3D3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8800-89F2-4DB5-BE96-24436AE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563F-02B6-4C80-ABC7-55BAE32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BBE3-13E9-41C3-AEED-66BDD5E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1CB7-BE47-45A9-9DC9-61DF4D1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ectionContentSlide-rev-notext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22880" y="61718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209E34D-A0D2-44A2-B307-008FCF863F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320" y="4752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ion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943280" y="1332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hydrates, Fats, and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1295280" y="60199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HPE-CopyRightSymbol"/>
          <p:cNvPicPr/>
          <p:nvPr/>
        </p:nvPicPr>
        <p:blipFill>
          <a:blip r:embed="rId3"/>
          <a:stretch/>
        </p:blipFill>
        <p:spPr>
          <a:xfrm>
            <a:off x="6083280" y="6519960"/>
            <a:ext cx="2751120" cy="11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V15Z-yyiVg" TargetMode="External"/><Relationship Id="rId2" Type="http://schemas.openxmlformats.org/officeDocument/2006/relationships/hyperlink" Target="https://www.youtube.com/watch?v=VEQaH4LruUo" TargetMode="External"/><Relationship Id="rId3" Type="http://schemas.openxmlformats.org/officeDocument/2006/relationships/hyperlink" Target="https://www.youtube.com/watch?v=wxzc_2c6GMg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c0014"/>
                </a:solidFill>
                <a:latin typeface="Arial"/>
              </a:rPr>
              <a:t>video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d d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8V15Z-yyi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l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VEQaH4Lru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wxzc_2c6G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EF717AB-EFB4-4B06-8DE3-ECC71FB18F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1552E78-80DD-4ADA-B842-82A8E9287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are nutrients made of carbon, hydrogen, and oxyg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38080" y="214956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supply energy for your bo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is the main source of energy for the body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D9717C9-4656-473E-93A6-BC08EBFEF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38080" y="1295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arbohydrates are sugars that enter the bloodstream rapidly and provide quick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imple carbs provide calories but few vitamins and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Simple Carbohydrate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533520" y="2971800"/>
            <a:ext cx="7848360" cy="2762280"/>
            <a:chOff x="533520" y="2971800"/>
            <a:chExt cx="7848360" cy="2762280"/>
          </a:xfrm>
        </p:grpSpPr>
        <p:sp>
          <p:nvSpPr>
            <p:cNvPr id="106" name="Rectangle 11"/>
            <p:cNvSpPr/>
            <p:nvPr/>
          </p:nvSpPr>
          <p:spPr>
            <a:xfrm>
              <a:off x="838080" y="3811320"/>
              <a:ext cx="754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lex carbohydrates are made up of sugars that are linked together chemically to form long ch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ch – a food substance that is made and stored in most p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rovide long-lasting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33520" y="2971800"/>
              <a:ext cx="7772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48a"/>
                  </a:solidFill>
                  <a:latin typeface="Arial"/>
                </a:rPr>
                <a:t>Complex Carbohydr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Carbohydrates can be…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ugars added to cookies, candies, soft d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Ca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rains (bread &amp; p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 (potatoes &amp;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-wheat r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A09B30C-93B2-4D40-A50F-B1953A46B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7534365-BFBF-4F02-9020-CF5A822AE8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45-65% of a per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aily calorie intake come from carbohyd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Carbohydrate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18" name="Picture 10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838080" y="2470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tter to eat foods rich in complex carbohydrates rather than simple carbohyd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3060343-8245-4796-A1A1-D7ED2E1F3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is a type of complex carbohydrate that is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Fiber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23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52480" y="2120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-fiber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38080" y="35053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y help prevent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 of grains and plant foods that cannot be digested i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39160" y="3043080"/>
            <a:ext cx="56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y reduce the risk of colo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841320" y="258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elps prevent 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Insoluble vs Soluble Fiber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with water to help produce bowel movements (prevent constip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reduced risk of colon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urces: wheat products, leafy vegetables, and fr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7524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foods with soluble fiber reduces your blood cholesterol level and your risk of developing hear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urces: wheat, bran, barley, rye, oats, whole grain pasta,breads, cerea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026C916-D5B0-48DD-A965-78C291DFC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70F3E14-2A84-47D8-984E-91FB768CF6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1295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are made of carbon, hydrogen,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38080" y="17524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supply your body with energy, form your cells, maintain body temperature, and protect your n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provides energy and helps the body store and use vitamin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15EDC4A-AF93-43E7-96F3-9D1EA0CE7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83808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t least one unsaturated bond in a place where hydrogen can be added to the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Unsaturated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42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838080" y="2470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aturated fats are usually liqu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38080" y="32925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aturated fats are classified as either monounsaturated fats or polyunsaturated f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877A9B2-9712-4245-BE7A-66295F26B2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that have all the hydrogen the carbon atoms can hold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urated f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Saturated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48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838080" y="2133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ed fats are usually sol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38080" y="2590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saturated fat in your diet can lead to hear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EC0CAF4-7671-4133-B12E-D7C372FAC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20-35% of your calories come from fat, primarily unsaturated f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Fat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D3C7E1A-4AFC-4CED-BDC9-0F6A1D60D5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PE-SectionOpener-PPS_TopPart"/>
          <p:cNvPicPr/>
          <p:nvPr/>
        </p:nvPicPr>
        <p:blipFill>
          <a:blip r:embed="rId1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59000" y="985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2120" y="1447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classes of nutrients that supply your body with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62120" y="2101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body obtains energy from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lackTriangleforPPS"/>
          <p:cNvPicPr/>
          <p:nvPr/>
        </p:nvPicPr>
        <p:blipFill>
          <a:blip r:embed="rId2"/>
          <a:stretch/>
        </p:blipFill>
        <p:spPr>
          <a:xfrm>
            <a:off x="549360" y="1535040"/>
            <a:ext cx="237960" cy="21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lackTriangleforPPS"/>
          <p:cNvPicPr/>
          <p:nvPr/>
        </p:nvPicPr>
        <p:blipFill>
          <a:blip r:embed="rId3"/>
          <a:stretch/>
        </p:blipFill>
        <p:spPr>
          <a:xfrm>
            <a:off x="549360" y="2184480"/>
            <a:ext cx="237960" cy="217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76320" y="4752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ion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943280" y="21276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hydrates, Fats, and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2120" y="2819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s that carbohydrates, fats, and proteins play in you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BlackTriangleforPPS"/>
          <p:cNvPicPr/>
          <p:nvPr/>
        </p:nvPicPr>
        <p:blipFill>
          <a:blip r:embed="rId4"/>
          <a:stretch/>
        </p:blipFill>
        <p:spPr>
          <a:xfrm>
            <a:off x="549360" y="2901960"/>
            <a:ext cx="2379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E956D5A-63AB-4040-9E55-A9E885C19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s are made when manufacturers add hydrogen to the fat molecules in vegetable 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Trans Fa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57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838080" y="2141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s are found in margarine, chips, and commercially bak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38080" y="2987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fat seems to have many of the negatives of saturated f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CF31099-E2F7-47A0-B0CA-D143486828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Protein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38080" y="2149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can serve as a source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838080" y="2590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trient that is needed for growth, and to build and repair body tissue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 that contain nitrogen as well as carbon, hydrogen, and oxygen are calle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A50B892-691D-45F6-91D0-F5B8D24B0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long chains of smalle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bound together che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pic>
        <p:nvPicPr>
          <p:cNvPr id="169" name="Picture 4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838080" y="21337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maller substances are known as ami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 blocks that make up protei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2C11AD7-FF65-4445-A731-C506E30A6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ists recommend that 10-35% percent of your calories come from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Daily Protein Intake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33520" y="2209680"/>
            <a:ext cx="7848360" cy="1724760"/>
            <a:chOff x="533520" y="2209680"/>
            <a:chExt cx="7848360" cy="1724760"/>
          </a:xfrm>
        </p:grpSpPr>
        <p:sp>
          <p:nvSpPr>
            <p:cNvPr id="175" name="Rectangle 8"/>
            <p:cNvSpPr/>
            <p:nvPr/>
          </p:nvSpPr>
          <p:spPr>
            <a:xfrm>
              <a:off x="838080" y="274320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ople who don’t eat meat can combine two or more plant protein sources that, taken together, provide all the essential amino acid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533520" y="22096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48a"/>
                  </a:solidFill>
                  <a:latin typeface="Arial"/>
                </a:rPr>
                <a:t>Proteins for Vegetari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1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0D62B27-1877-4153-BE93-382C699F4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ance in foods that the body needs to regulate bodily functions, promote growth, repair body tissues, and obtain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80880" y="2433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895480" y="24336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emical process by which the body breaks down food to release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80880" y="3268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2688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for the amount of energy released when nutrients are broken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80880" y="410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895480" y="410220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made of carbon, hydrogen, and oxygen and that supplies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80880" y="4937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895480" y="493704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dealing with an uncomfortable or unbearable feeling or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DCEB4DE-4C08-4976-804D-63FDAB920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241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aturated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895480" y="24130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t with at least one unsaturated bond in a place where hydrogen can be added to the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80880" y="3530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ated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895480" y="353052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t that has all the hydrogen the carbon atoms can hold. A fat that has all the hydrogen the carbon atoms can h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0880" y="4648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895480" y="464832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xy, fatlike substance that is found only in animal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made of carbon, hydrogen, and oxygen; supplies energy, forms cells, maintains body temperature, and protects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610C61E-B42C-47F0-8A5A-E1ED2CACB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Vocabular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0880" y="2468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895480" y="246852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trient that contains nitrogen as well as carbon, hydrogen, and oxygen; needed for the growth and repair of body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0880" y="3641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895480" y="364176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units that are bound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ly to form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380880" y="1295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2895480" y="12952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 of fat produced when manufacturers add hydrogen to the fat molecules in vegetable o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ich 3 classes of nutrients supply the body with energy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 the term metabolism.  How is metabolism related to the nutrients in food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roles do the following nutrients play in the body? A. carbohydrates B. fats C. prote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do saturated fats differ from unsaturated fats? Name 2 sources of each type of f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se that you ate 2,500 calories/day.  Of those calories, 1,200 calories were from carbs, 875 from fats, and the rest from protein.  What % of your total day’s calories came from carbs, from fats, and from protein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CEB72CA-B272-484C-B121-18BD945AC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Nutrition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processes by which humans, animals, and plants consume and use foo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B698D09-4BA5-4882-AA03-FBE1D6FAE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010121A-3BF9-448B-9453-6C7B2AE0B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83808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upplies your body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en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in food that helps with body processes (regulate bodily functions, promote growth, repair body tissues, and obtain energ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oods Supply Nutrients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838080" y="28353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classes of nutrients: carbohydrates, fats, proteins, vitamins, minerals,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838080" y="3673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, fats, and proteins can all be used by the body as source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9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EB48287-0A73-4058-B8DD-428542237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8080" y="1295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s you eat are your bod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nergy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0014"/>
                </a:solidFill>
                <a:latin typeface="Arial"/>
              </a:rPr>
              <a:t>Foods Supply Energ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38080" y="1784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energy to maintain your body temperature, keep your heart beating, and enable you to understand what you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8B21265-BCB8-43C8-9C7A-8D864B391E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38080" y="1295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r body uses the nutrients in foods, a series of chemical reactions occurs inside your cells.  As a result, energy is rele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Fuel for Your Body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2530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hemical process by which your body breaks down food to release a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838080" y="3429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sm also involves the use of this energy for growth and repair of body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55348AD-4F3B-47B5-B2B0-E3E553244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83808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energy released when nutrients are broken down is measured in uni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8a"/>
                </a:solidFill>
                <a:latin typeface="Arial"/>
              </a:rPr>
              <a:t>What are Calories?</a:t>
            </a:r>
            <a:endParaRPr b="1" lang="en-US" sz="2800" spc="-1" strike="noStrike">
              <a:solidFill>
                <a:srgbClr val="ac0014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8080" y="21495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alories a food has, the more energy it co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EndSection"/>
          <p:cNvPicPr/>
          <p:nvPr/>
        </p:nvPicPr>
        <p:blipFill>
          <a:blip r:embed="rId1"/>
          <a:stretch/>
        </p:blipFill>
        <p:spPr>
          <a:xfrm>
            <a:off x="7934400" y="5626080"/>
            <a:ext cx="1077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E4B7027-F2F7-4FF7-A718-90241E9D41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h8pge193-Lunch1"/>
          <p:cNvPicPr/>
          <p:nvPr/>
        </p:nvPicPr>
        <p:blipFill>
          <a:blip r:embed="rId1"/>
          <a:stretch/>
        </p:blipFill>
        <p:spPr>
          <a:xfrm>
            <a:off x="2457360" y="1371600"/>
            <a:ext cx="4235400" cy="464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h8pge193-Lunch-title"/>
          <p:cNvPicPr/>
          <p:nvPr/>
        </p:nvPicPr>
        <p:blipFill>
          <a:blip r:embed="rId2"/>
          <a:stretch/>
        </p:blipFill>
        <p:spPr>
          <a:xfrm>
            <a:off x="2286000" y="762120"/>
            <a:ext cx="447372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702324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BF0B399-D84A-4345-BD12-8AA34E30D3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h8pge193-Lunch2"/>
          <p:cNvPicPr/>
          <p:nvPr/>
        </p:nvPicPr>
        <p:blipFill>
          <a:blip r:embed="rId1"/>
          <a:stretch/>
        </p:blipFill>
        <p:spPr>
          <a:xfrm>
            <a:off x="1936800" y="1219320"/>
            <a:ext cx="5275080" cy="482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h8pge193-Lunch-title"/>
          <p:cNvPicPr/>
          <p:nvPr/>
        </p:nvPicPr>
        <p:blipFill>
          <a:blip r:embed="rId2"/>
          <a:stretch/>
        </p:blipFill>
        <p:spPr>
          <a:xfrm>
            <a:off x="2286000" y="762120"/>
            <a:ext cx="447372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40:25Z</dcterms:created>
  <dc:creator>John Perry</dc:creator>
  <dc:description/>
  <dc:language>en-US</dc:language>
  <cp:lastModifiedBy>Sean</cp:lastModifiedBy>
  <dcterms:modified xsi:type="dcterms:W3CDTF">2017-06-14T14:39:21Z</dcterms:modified>
  <cp:revision>193</cp:revision>
  <dc:subject/>
  <dc:title>PowerPoint Presentation</dc:title>
</cp:coreProperties>
</file>